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869-CECC-4E4B-93FC-FEB3DFDF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054-1E4C-457C-B940-1100037A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9C63-961B-405E-975E-6E631D86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71A8-256C-4D8D-8426-9C3A5C0A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D372-1793-4928-B4EF-D53C6025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7212-3377-4DC3-ACA7-B2E89F53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17C8-A5A5-4406-9961-6CEC09A8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A4E4-CA43-4CD6-BFAA-4F06933F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200A-273E-4575-B056-1801A7DA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EDC7-4E6C-440C-9725-BFA47452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6AD8-F4FD-46E5-82C0-FE72B749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700-CED6-4176-A6C7-72BFFEDC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CC4B-C588-4AA6-8591-774ED970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0D31-EF81-477D-AC98-134A2F59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F73B-95CD-4320-BC48-C9F2B07D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3A46-29F9-4733-8E07-3045E4EA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0C63-75F4-49F2-9BF0-5AC468D7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23725-4103-4881-8A3F-1BA431F9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4FC8-18C5-48E6-98F1-A8B0E2CF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E5AF7-BDDC-4550-B8FF-B2EAB504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FABE8-A793-40D1-B790-CF0F86A8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59BBE-A79B-4115-8F7A-B6036A48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BAA5-4A42-4237-B88E-607A6C16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A037C-822B-4504-BC02-48EA52D3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5324E-BB65-4E88-88AB-9B2C98A7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F2156-39A8-4FB3-A3CC-F3DC99B9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C49CF-9A4B-42DF-8796-856677A9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CF3FC-CEF7-40FA-9B01-0DC12ABA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6FD7E-3F05-4F69-BB4B-FD43FDBD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DE22D-47A9-4300-A549-145B19E6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ECCA9-E7CE-4AAF-AFF7-E72D088C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654C0-3BFF-475B-993E-905A79F7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3B947-D0AB-4155-86E9-145296B7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4262-DEF2-4B9C-85A4-E3A5694E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709AF-3E0C-4F4D-969F-AABF4E92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75987-824D-423F-A32D-0F516D08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184B7-0259-441A-9412-3C0331D9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2EEF8-10D3-443C-9AF5-9A78CA25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10372-F712-4852-B6D9-B35B6F19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EC5BC-3A53-4473-9E32-F5F1D173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1D4D9-598E-4621-B1FF-F5E28540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1F23D-B53C-4DDE-9C1F-07C9034D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6C6A9-F8DB-4D6B-897A-7EF8DB0F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6B603-8AE0-404E-93FC-0A53B4D5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6A3-666C-4E51-B97B-A589A8D9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C4F6A-6853-4401-93B0-FEC5BF42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984AC-DF1E-4D97-B0D4-15DCF22C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DF8A8-EC41-41EA-AEDC-4B4BE41C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32CF5-993C-424E-A65A-C38AFFF6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45701-D2C1-4868-B420-E522BAE8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A0407-3430-4B5E-B279-4A37A4AA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71F4A-1269-4EA5-846B-87BB0BDA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8E6BE-9F71-47A6-BF62-E0CFC875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5DF4F-DE26-4CB1-BA2A-99E07CD4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CAB15-0B24-4C59-8F29-999E958E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D6D-14A3-42B0-8B3F-C62FCFD9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B1F61-A645-4EF6-B268-5EB63E31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604D9-F818-4700-B308-9DF43DB2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0D431-20DD-43B9-AAC4-44FFB321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DEFEF-219B-4859-9C76-4AB0E9F8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3713D-D792-4ADB-A4F7-81D179A5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616B9-23D9-4C52-B54F-DFB23804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E08A3-9414-40BC-B62D-E76A2D08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6C771-6293-45F0-B0DF-0F9D8904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50F5F-CB4E-4738-B686-44DF203A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7934F-B826-4CA1-AEF1-083A76A3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4C9F-14E0-4827-AF4D-BE8F6434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4FD1F-FF43-4073-868A-2D137893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2F97F-979A-4B5C-B821-6DC8E3E4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E44C9-727C-4DB9-AF6D-24480E72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9BF-09A3-46CA-A10E-DCCE09C2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F2C6-88DB-406A-90F9-F6DF19FC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F5FFB-5633-4A81-B3A1-9A9197AA99F2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C0CB1-0F0A-4193-902A-2B7DCA942BE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D31EA-F9AD-452D-8006-1403C980713F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704F2-6D22-408F-A0E4-D7B760A8F0B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D3310-8B31-4920-8BFE-B1296326BB27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F76F4-1DCA-462D-AC66-C79094B785B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7A0EE-05AB-4129-8893-8E0E72C98B40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D9C06-CA65-474B-88A0-12032696626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297A51-D639-47D7-86E3-9A1B5E8A4CB6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3AC5B-9BA8-418C-95EC-B3C04F60178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49E88-3BEE-44BD-B24A-27C1C961BFF7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9DFFB-2FB9-4655-9244-EE7EB96DC6C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quia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dimckenzie.com/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3" descr=""/>
          <p:cNvPicPr/>
          <p:nvPr/>
        </p:nvPicPr>
        <p:blipFill>
          <a:blip r:embed="rId2"/>
          <a:stretch/>
        </p:blipFill>
        <p:spPr>
          <a:xfrm>
            <a:off x="682560" y="1554120"/>
            <a:ext cx="7778880" cy="22258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iane McKenz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Aug 8, 200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genealogy illustrates change with inheritance over a small number of years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01" name="Content Placeholder 4" descr=""/>
          <p:cNvPicPr/>
          <p:nvPr/>
        </p:nvPicPr>
        <p:blipFill>
          <a:blip r:embed="rId2"/>
          <a:srcRect l="0" t="-4450" r="0" b="-4450"/>
          <a:stretch/>
        </p:blipFill>
        <p:spPr>
          <a:xfrm>
            <a:off x="457200" y="148104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2"/>
          <a:stretch/>
        </p:blipFill>
        <p:spPr>
          <a:xfrm>
            <a:off x="4648320" y="1417680"/>
            <a:ext cx="4038480" cy="4157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ver a large number years, evolution produces tremendous diversity in forms of lif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rough the process of descent with modification, the common ancestor of life on Earth gave rise to the fantastic diversit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see documented in the fossil record and around us to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olution means that humans, oak trees, hummingbirds, and whales all have some common ancest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685800" y="1904760"/>
            <a:ext cx="8229600" cy="40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wer points with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o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cont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uided Reading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ed to make up and stay up-to-date with cl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stservs to communicate with colleagues but they are only two w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nks to activities, games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www.quia.com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9" name="Title 2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1" descr=""/>
          <p:cNvPicPr/>
          <p:nvPr/>
        </p:nvPicPr>
        <p:blipFill>
          <a:blip r:embed="rId2"/>
          <a:stretch/>
        </p:blipFill>
        <p:spPr>
          <a:xfrm>
            <a:off x="682560" y="530280"/>
            <a:ext cx="7778880" cy="11462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1490040" y="2362320"/>
            <a:ext cx="756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more powerful power points with interactive attac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screentoasters.com has allowed us to implement U tube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inkable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connectedness with my students (commun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 new techniques and unafraid to try new t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with other group pages through ning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se students to new types of assignments “podcasts” “imovies”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ly I wanted to develop a Blackboard site but because on 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I put together my yahoo site with unlimited storage an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build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2"/>
          <a:stretch/>
        </p:blipFill>
        <p:spPr>
          <a:xfrm>
            <a:off x="682560" y="1749600"/>
            <a:ext cx="7778880" cy="20365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www.dimckenzie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le 1" descr=""/>
          <p:cNvPicPr/>
          <p:nvPr/>
        </p:nvPicPr>
        <p:blipFill>
          <a:blip r:embed="rId2"/>
          <a:stretch/>
        </p:blipFill>
        <p:spPr>
          <a:xfrm>
            <a:off x="682560" y="603360"/>
            <a:ext cx="7778880" cy="12254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CRUZER 1GB:st_screencast.mov"/>
          <p:cNvPicPr/>
          <p:nvPr/>
        </p:nvPicPr>
        <p:blipFill>
          <a:blip r:embed="rId3"/>
          <a:stretch/>
        </p:blipFill>
        <p:spPr>
          <a:xfrm>
            <a:off x="533520" y="1752480"/>
            <a:ext cx="806436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evoluti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es evolution have to do with m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evidence is there for evoluti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the history of evoluti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8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spcAft>
                <a:spcPts val="42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croevolution - changes in gene frequency in a population from one generation to the nex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croevolution - the descent of different species from a common ancestor over many gener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0" name="Title 2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volution is not simply a matter of change over tim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rees lose their leav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93" name="Content Placeholder 4" descr=""/>
          <p:cNvPicPr/>
          <p:nvPr/>
        </p:nvPicPr>
        <p:blipFill>
          <a:blip r:embed="rId2"/>
          <a:srcRect l="-1724" t="0" r="-1724" b="0"/>
          <a:stretch/>
        </p:blipFill>
        <p:spPr>
          <a:xfrm>
            <a:off x="4648320" y="148104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ountain ranges rise and erod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4724280" y="1417680"/>
            <a:ext cx="390204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8:28:48Z</dcterms:created>
  <dc:creator>College of Education</dc:creator>
  <dc:description/>
  <dc:language>en-US</dc:language>
  <cp:lastModifiedBy>College of Education</cp:lastModifiedBy>
  <dcterms:modified xsi:type="dcterms:W3CDTF">2009-08-08T18:57:33Z</dcterms:modified>
  <cp:revision>4</cp:revision>
  <dc:subject/>
  <dc:title>Evolution</dc:title>
</cp:coreProperties>
</file>